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AD31-68EF-45F0-8326-54AB8B25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0413-E707-40C0-B298-633DC27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4D74-B77C-447F-9DA5-D43504BC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FF56-D2E1-43E2-8EBD-74896BFF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E58-C296-4312-8064-B6F3C0D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879-D184-4286-9FB5-0FAFC3A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A4CA-FDD0-4CBA-87BF-7DA0495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1F0-0EF3-45BB-9493-2479B05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5E8-D44F-48DE-967C-15B78057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A68D-DCF3-48D6-BF9D-1B4ADB28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71F-0C21-48DD-A462-7D22E6C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9D50-2958-4816-85C5-C296C67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0378-0CBD-4566-BA7C-8D7A58E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2B0A-C649-484E-B8EA-78E0E97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A52-7E0C-4239-B1EC-9779026A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1B61-2816-48DF-9CFF-4C54CA21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615-E3A9-44AD-B1A1-1A616932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C0C6-B569-4793-9E3E-66947811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1232-9F97-4D9F-BBE1-DFDB06F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A4FC-1160-4E3A-BBDD-7F36297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9C93-A348-43C2-A17A-4FDE68B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C90D-501A-4D29-A115-F42B743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1A04-D7C2-497A-BB6A-C97707D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A7CD-A044-4882-84D1-D6EF84B0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CE8-3661-49DE-ADBC-257362761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228-00F7-462F-BB0D-4BAD43E2B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07:19Z</dcterms:modified>
  <cp:revision>19</cp:revision>
  <dc:subject/>
  <dc:title>“Trifles”</dc:title>
</cp:coreProperties>
</file>